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890-5B59-481D-A7CE-4ECBA0BC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752-B9C6-4583-8566-90AC7F9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4AC-A46E-4AB1-B925-0C661839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2BA-E85E-4BDD-9879-39474B18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A3A7-C205-4372-A889-F440984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704-C98C-491E-BF7A-F1E7849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147B-E437-4258-84A3-109EAA9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6CB0-CB56-41E5-9CFE-9521501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C4C4-CD27-4176-989F-4548181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F3F-A6D2-40E7-9F7E-404792A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35FA-EBC9-445E-AA10-616C26D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4E8-02F9-4E06-AC00-71F4793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4D8B-9134-4BAC-B844-B773DAF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7D9C-96EF-49F9-B081-5192C51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4D4E-6035-455F-A802-F9E4026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3BB2-49C3-4602-A854-09A161C1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D9B6-42CC-433D-941A-7F0D4D62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6DA-082F-415C-8996-A2B71AB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DF9-60C3-4C52-9CC3-28EB6DA1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368-0F84-4E0F-8CAB-E46026DD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CFF-879F-4E9B-AD5E-342A5F2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D97-8DE2-498E-BE7D-8D2F793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A1E-9A9D-4A45-8C6B-3B3FD5F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67E-9E75-464F-B5C2-39CBEAE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635-0BF0-4BCE-8476-C61CE8CBA1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2E5-1C64-4C3E-8C50-38268E1272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whitecity/index.html" TargetMode="External"/><Relationship Id="rId3" Type="http://schemas.openxmlformats.org/officeDocument/2006/relationships/hyperlink" Target="http://www.bgcrv.com/whitecity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forms/White%20City%202010-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gcrv.com/whitecity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Comic Sans MS"/>
              </a:rPr>
              <a:t>Alisa K. Holland</a:t>
            </a: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Comic Sans MS"/>
              </a:rPr>
              <a:t>ED 487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5760" y="1828800"/>
            <a:ext cx="6402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Non- Profit Community Organization in The Neighbor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oys &amp; Girls Club of White 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Boys &amp; Girls Club of White City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erves children ages 6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District 9 provides bussing from White City Elementary, Mt. View Elementary, and White Mountain Middle school, and Eagle Point High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Open Daily throughout the school year Monday through Friday 2:00-6: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ree with a 40 dollar membership fee and brief ori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register call 541-830-7623 or drop in at 3275 Ave. G in White City or visit their web site at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3"/>
              </a:rPr>
              <a:t>www.bgcrv.com/whitecity/index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55357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ummer schedule is Monday – Friday 7:30 a.m.–6:30 p.m. - rates vary for summer memb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riday is Teen Night 6:30 p.m.–9:30 p.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dditional activities provided: hiking, biking, museums, libraries, an swimming pools, enhancing hands on learning exper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or a fee members can play a league organized sport: volleyball, tackle football, flag football, and basketb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ew the clubs calenda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www.bgcrv.com/forms/White%20City%202010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2011%20Calendar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Boys &amp; Girls Club mission Statement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oys &amp; girls Club of the Rogue Valley works to provide year round positive fun and safe places and programs for all kids helping them to build self-esteem and develop skills necessary to make right choices, becoming responsible and productive citizens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http://www.bgcrv.com/whitecity/index.htm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The Facility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 large building with a teen room, game room, arts &amp; crafts room, technology room: computers available, and leadership room – exploring careers, homework hel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Activities and programs provided focus on 5 core areas:  health, recreation, education, arts and character/leadership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Outdoors features a large grassy play field, basketball, volleyball, playground, and covered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Staff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Must pass a drug screen and  criminal background che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Must have a good start on both post-secondary education and work experienc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Volunteers wanted, High School students can earn school credit for volunteer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A Foster Grandma from the Foster Grandparent Program currently volunteers and helps with home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Comic Sans MS"/>
              </a:rPr>
              <a:t>Additional Support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Second language support in the form of Spanis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USDA supper Meal provided from White City Elementary school ex: hoagie sandwich, apple, carrots, and mi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White City Program Director: Megan Serv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 Find out more about the Boys &amp; Girls Club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ttp://begreat4kids.com/index.ph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2:02:47Z</dcterms:created>
  <dc:creator>aholland</dc:creator>
  <dc:description/>
  <dc:language>en-US</dc:language>
  <cp:lastModifiedBy>aholland</cp:lastModifiedBy>
  <dcterms:modified xsi:type="dcterms:W3CDTF">2011-02-05T01:31:26Z</dcterms:modified>
  <cp:revision>4</cp:revision>
  <dc:subject/>
  <dc:title>Alisa K. Holland ED 487 </dc:title>
</cp:coreProperties>
</file>